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5BD-72D3-4258-B37D-548FCB02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23C-1502-4246-BA83-15B17EDE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E10-62D2-488F-B59E-AF100767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C9C-5B2C-4734-8649-996407FD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74D1-0F09-4CD8-A144-616172DA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6334-9355-4A4A-9CD0-D5EC38ED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9A90-7F82-4A78-BD22-D556C7B5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A4B8-7EC5-4E26-9904-68934634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884D-378E-4140-BBFB-7CD49761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7CB8-AA46-45A5-9311-2623DFE3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FB52-B703-4A4A-9C93-A0FD6CB1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8AF-B566-48D3-B821-33F4BCBC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35F8-813F-4770-A253-8C81895B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68A0-DCFF-4B14-939B-638C4959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6194-060D-4432-8D72-52D4D171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FEB5-B749-4F76-90FD-7FED7182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A0E3-5051-4975-8C82-360C7D3B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9FB-0EF7-4AB7-AC89-C7965909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1E9-EBFC-4E73-905F-37209FF9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76C-8AB0-4144-9E8A-78C0BFBC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7BA-741B-43E0-9A87-94FC946D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501-DAE4-4BBE-9FF6-B67C3F90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FCD-0C15-4854-9C1E-91CB757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227-A205-46AD-B52B-BF9D3983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AF3D-6A6E-4370-8200-0669B5F20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C91-E991-42F1-B67C-225099096ADD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Times New Roman"/>
              </a:rPr>
              <a:t>Natural Selection and Evolution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Times New Roman"/>
              </a:rPr>
              <a:t>Learning Targets and Success Criteria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620120" cy="380880"/>
          </a:xfrm>
          <a:prstGeom prst="rect">
            <a:avLst/>
          </a:prstGeom>
          <a:solidFill>
            <a:srgbClr val="8383ad">
              <a:alpha val="50000"/>
            </a:srgbClr>
          </a:solidFill>
          <a:ln w="255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Learning Target    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   Success Criteria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</a:t>
            </a:r>
            <a:r>
              <a:rPr b="0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understand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the various aspects of Natural Selection and its impact on a species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am successful when I can explain the four parts of Darwin’s Natural Selection and the role that each plays in evolution and the continuation of a species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8" name="WordArt 7"/>
          <p:cNvSpPr txBox="1"/>
          <p:nvPr/>
        </p:nvSpPr>
        <p:spPr>
          <a:xfrm>
            <a:off x="685800" y="533520"/>
            <a:ext cx="693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6666"/>
                  </a:solidFill>
                  <a:miter/>
                </a:ln>
                <a:solidFill>
                  <a:srgbClr val="babe9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atural Selection</a:t>
            </a:r>
            <a:endParaRPr b="0" lang="en-US" sz="2400" spc="1" strike="noStrike">
              <a:ln cap="sq" w="12600">
                <a:solidFill>
                  <a:srgbClr val="006666"/>
                </a:solidFill>
                <a:miter/>
              </a:ln>
              <a:solidFill>
                <a:srgbClr val="babe9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620120" cy="380880"/>
          </a:xfrm>
          <a:prstGeom prst="rect">
            <a:avLst/>
          </a:prstGeom>
          <a:solidFill>
            <a:srgbClr val="8383ad">
              <a:alpha val="50000"/>
            </a:srgbClr>
          </a:solidFill>
          <a:ln w="255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Learning Target    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   Success Criteria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Times New Roman"/>
              </a:rPr>
              <a:t>I </a:t>
            </a:r>
            <a:r>
              <a:rPr b="0" lang="en-US" sz="3600" spc="-1" strike="noStrike" u="sng">
                <a:solidFill>
                  <a:srgbClr val="8383ad"/>
                </a:solidFill>
                <a:uFillTx/>
                <a:latin typeface="Times New Roman"/>
              </a:rPr>
              <a:t>recognize</a:t>
            </a:r>
            <a:r>
              <a:rPr b="0" lang="en-US" sz="3600" spc="-1" strike="noStrike">
                <a:solidFill>
                  <a:srgbClr val="8383ad"/>
                </a:solidFill>
                <a:latin typeface="Times New Roman"/>
              </a:rPr>
              <a:t> that variation exists in a population and may help or hinder an organism’s ability to survive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Times New Roman"/>
              </a:rPr>
              <a:t>I am successful when I can identify specific adaptations that can affect an organism’s survival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2" name="WordArt 5"/>
          <p:cNvSpPr txBox="1"/>
          <p:nvPr/>
        </p:nvSpPr>
        <p:spPr>
          <a:xfrm>
            <a:off x="685800" y="533520"/>
            <a:ext cx="5638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6666"/>
                  </a:solidFill>
                  <a:miter/>
                </a:ln>
                <a:solidFill>
                  <a:srgbClr val="babe9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daptations</a:t>
            </a:r>
            <a:endParaRPr b="0" lang="en-US" sz="2400" spc="1" strike="noStrike">
              <a:ln cap="sq" w="12600">
                <a:solidFill>
                  <a:srgbClr val="006666"/>
                </a:solidFill>
                <a:miter/>
              </a:ln>
              <a:solidFill>
                <a:srgbClr val="babe9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620120" cy="380880"/>
          </a:xfrm>
          <a:prstGeom prst="rect">
            <a:avLst/>
          </a:prstGeom>
          <a:solidFill>
            <a:srgbClr val="8383ad">
              <a:alpha val="50000"/>
            </a:srgbClr>
          </a:solidFill>
          <a:ln w="255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Learning Target    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   Success Criteria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can use anatomical structure to </a:t>
            </a:r>
            <a:r>
              <a:rPr b="0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compare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infer relationships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between organisms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am successful if I can provide 3 pieces of evidence to explain how some trilobites might be more closely related than the rest of the group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685800" y="533520"/>
            <a:ext cx="4267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6666"/>
                  </a:solidFill>
                  <a:miter/>
                </a:ln>
                <a:solidFill>
                  <a:srgbClr val="babe9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cestry</a:t>
            </a:r>
            <a:endParaRPr b="0" lang="en-US" sz="2400" spc="1" strike="noStrike">
              <a:ln cap="sq" w="12600">
                <a:solidFill>
                  <a:srgbClr val="006666"/>
                </a:solidFill>
                <a:miter/>
              </a:ln>
              <a:solidFill>
                <a:srgbClr val="babe9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620120" cy="380880"/>
          </a:xfrm>
          <a:prstGeom prst="rect">
            <a:avLst/>
          </a:prstGeom>
          <a:solidFill>
            <a:srgbClr val="8383ad">
              <a:alpha val="50000"/>
            </a:srgbClr>
          </a:solidFill>
          <a:ln w="255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Learning Target    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   Success Criteria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</a:t>
            </a:r>
            <a:r>
              <a:rPr b="0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recognize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that extinction is a common event that occurs when a species cannot adapt to their changing environment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I am successful if I can provide an example of an extinct species and explain why it became extinct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WordArt 5"/>
          <p:cNvSpPr txBox="1"/>
          <p:nvPr/>
        </p:nvSpPr>
        <p:spPr>
          <a:xfrm>
            <a:off x="685800" y="533520"/>
            <a:ext cx="4267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6666"/>
                  </a:solidFill>
                  <a:miter/>
                </a:ln>
                <a:solidFill>
                  <a:srgbClr val="babe9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tinction</a:t>
            </a:r>
            <a:endParaRPr b="0" lang="en-US" sz="2400" spc="1" strike="noStrike">
              <a:ln cap="sq" w="12600">
                <a:solidFill>
                  <a:srgbClr val="006666"/>
                </a:solidFill>
                <a:miter/>
              </a:ln>
              <a:solidFill>
                <a:srgbClr val="babe9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7:06:25Z</dcterms:created>
  <dc:creator>ELemke</dc:creator>
  <dc:description/>
  <dc:language>en-US</dc:language>
  <cp:lastModifiedBy>Kevin Hill</cp:lastModifiedBy>
  <dcterms:modified xsi:type="dcterms:W3CDTF">2012-01-30T00:26:23Z</dcterms:modified>
  <cp:revision>6</cp:revision>
  <dc:subject/>
  <dc:title>Natural Selection and Evolution Learning Targets and Success Criteria</dc:title>
</cp:coreProperties>
</file>